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17A0-2328-4A33-97FE-FCDD7C3F7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is not currently an OBI term.  Is it a synonym for investig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design is not currently an OBI term.  Is it a synonym of investigation desig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1D7E-EEE4-40CB-BC29-12B7315A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960-D5E8-4859-B31C-797CE853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F419-C06F-41FF-954D-B2633869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588-A1D8-4894-8FE4-F25D2AA5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F78-5BEE-4067-9573-3D039940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56F-C179-463A-AFBD-54478B31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27CE-FB37-4086-969B-D321E77C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B870-B551-4B52-A63E-BB695C3F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AD7-706E-4E34-AB94-BB237982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5997-34F4-4236-8417-E15458B6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852F-D1C9-4AEC-9AC4-F2F8D671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4EE-F767-4ACF-B818-7521A265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EF6E-9351-4F0C-84AB-23F16F4BC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3240"/>
            <a:ext cx="77724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 membership into BFO/OBI bra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5400000">
            <a:off x="1531440" y="-291960"/>
            <a:ext cx="6122880" cy="81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881600" y="4805280"/>
            <a:ext cx="2015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Biological marker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udy populations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Trial coordinator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udy variable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Drug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ubject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53764" t="30841" r="2979" b="24000"/>
          <a:stretch/>
        </p:blipFill>
        <p:spPr>
          <a:xfrm>
            <a:off x="2428920" y="1522440"/>
            <a:ext cx="4219560" cy="3303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24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2762" t="26392" r="5988" b="29168"/>
          <a:stretch/>
        </p:blipFill>
        <p:spPr>
          <a:xfrm>
            <a:off x="762120" y="952560"/>
            <a:ext cx="7924680" cy="3251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95720" y="420228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5440" y="4943520"/>
            <a:ext cx="3196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Case report form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Patient file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Consent form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New drug application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Investigational new drug application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13411" t="31077" r="3514" b="24305"/>
          <a:stretch/>
        </p:blipFill>
        <p:spPr>
          <a:xfrm>
            <a:off x="469800" y="1663560"/>
            <a:ext cx="810288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12108" t="28995" r="8332" b="29168"/>
          <a:stretch/>
        </p:blipFill>
        <p:spPr>
          <a:xfrm>
            <a:off x="851040" y="1231920"/>
            <a:ext cx="7759440" cy="306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84880" y="4295880"/>
            <a:ext cx="28371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Meta-analysis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Quality assurance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Quality control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Baseline assessment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Validation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Coding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Permuted block randomization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econdary-study-protocol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Intervention-step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Blinding-method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43840" y="430200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udy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795840"/>
            <a:ext cx="1523880" cy="457200"/>
          </a:xfrm>
          <a:prstGeom prst="rect">
            <a:avLst/>
          </a:prstGeom>
          <a:noFill/>
          <a:ln w="38160">
            <a:solidFill>
              <a:srgbClr val="7a7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0600" y="1798560"/>
            <a:ext cx="290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Development plan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andard operating procedures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atistical analysis plan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2529000"/>
            <a:ext cx="658800" cy="457200"/>
          </a:xfrm>
          <a:prstGeom prst="rect">
            <a:avLst/>
          </a:prstGeom>
          <a:noFill/>
          <a:ln w="38160">
            <a:solidFill>
              <a:srgbClr val="7a7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12404" t="29429" r="3924" b="25220"/>
          <a:stretch/>
        </p:blipFill>
        <p:spPr>
          <a:xfrm>
            <a:off x="433440" y="1112760"/>
            <a:ext cx="8161200" cy="331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8080" y="4202280"/>
            <a:ext cx="2004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Negative findings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Positive findings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Primary-outcome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econdary-outcome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09:50:08Z</dcterms:created>
  <dc:creator>Pathology</dc:creator>
  <dc:description/>
  <dc:language>en-US</dc:language>
  <cp:lastModifiedBy>Pathology</cp:lastModifiedBy>
  <dcterms:modified xsi:type="dcterms:W3CDTF">2007-09-25T17:33:46Z</dcterms:modified>
  <cp:revision>44</cp:revision>
  <dc:subject/>
  <dc:title>CTO - Clinical Trials/Research in the Ontology of Biomedical Investigation</dc:title>
</cp:coreProperties>
</file>